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192-ACDE-4575-A43A-254053DB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83E-543D-47B0-AE9D-A64D098E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0A7-0B0E-4747-B780-B91C2C9E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5B1-DA30-42FD-9890-C476D19E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682-25A8-4D28-8F43-E88A39EA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462-1D73-493A-9876-E94E9921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5E7-EA1D-443D-BAC6-CC9F4F0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35E-A49A-46B4-A39A-E1F66C61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D33-7689-4622-9013-F18FD8F0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1E6-330A-43CA-A38C-EC864FE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DA2-907E-4EB5-A5F6-7813098A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D01-704D-4506-99E5-9D61286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FBCA-06E5-4966-84DA-83CE1276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060640"/>
            <a:ext cx="151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1840" y="1989000"/>
            <a:ext cx="165744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9840" y="2349360"/>
            <a:ext cx="7489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349360"/>
            <a:ext cx="505080" cy="57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042920" y="2997000"/>
            <a:ext cx="7308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2060640"/>
            <a:ext cx="3816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1989000"/>
            <a:ext cx="302400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3933720"/>
            <a:ext cx="2016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6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2560" y="3862440"/>
            <a:ext cx="1873440" cy="136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422100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04000" y="4292640"/>
            <a:ext cx="3240000" cy="1944720"/>
          </a:xfrm>
          <a:prstGeom prst="cloudCallout">
            <a:avLst>
              <a:gd name="adj1" fmla="val -64111"/>
              <a:gd name="adj2" fmla="val 5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sy... multiply each element of the matrix by the sca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2060640"/>
            <a:ext cx="720720" cy="57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484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2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1052640"/>
            <a:ext cx="18000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10) + (7 x 60) + (3 x 30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2060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56000" y="177336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928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528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32720" y="256536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149720"/>
            <a:ext cx="5182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3) x (3 x 2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 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414972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407664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413000"/>
            <a:ext cx="20890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492280"/>
            <a:ext cx="1656000" cy="165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4797360"/>
            <a:ext cx="446400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columns in the first must equal the number of rows in the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Multiply matrices by scalars and other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0:06:07Z</dcterms:created>
  <dc:creator>N Holden</dc:creator>
  <dc:description/>
  <dc:language>en-US</dc:language>
  <cp:lastModifiedBy>N Holden</cp:lastModifiedBy>
  <dcterms:modified xsi:type="dcterms:W3CDTF">2008-12-17T11:48:59Z</dcterms:modified>
  <cp:revision>4</cp:revision>
  <dc:subject/>
  <dc:title>L.O. Multiply matrices by scalars and other matrices</dc:title>
</cp:coreProperties>
</file>